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058-AFE2-4D58-82C6-2AA3EE2D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3C6-CE26-441E-B92A-FC36CA2F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513-1B5F-4F02-B72E-8A55F009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D31-20F2-48D6-A32E-11369879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2D9-A094-48A0-B3DF-CDB004AC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FAD-2A6B-413E-86A1-35B13B0D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352B-A591-4271-B9C2-2DE4FAD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A7E7-EF25-4F8F-ACEC-941C0DFE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64A-803E-48F8-AC8E-79958210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6F8-2235-4E2F-B6D2-C5409700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03F-D005-4DF0-8CD4-10F645ED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38E-E80F-4E7A-B1AD-19F57147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D2F5-85F8-4B80-9724-F187DA8D7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5720" y="3038400"/>
            <a:ext cx="8439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9900ff"/>
                </a:solidFill>
                <a:latin typeface="Arial"/>
              </a:rPr>
              <a:t>Haiti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By: Katelin Br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3606840" cy="27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1160" y="5181480"/>
            <a:ext cx="3865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2640" y="299520"/>
            <a:ext cx="96598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8761d"/>
                </a:solidFill>
                <a:latin typeface="Arial"/>
              </a:rPr>
              <a:t>Historical Even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93c47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c47d"/>
                </a:solidFill>
                <a:latin typeface="Verdana"/>
              </a:rPr>
              <a:t>The hemisphere's second Republic is declared on January 1, 1804 by General Jean-Jacques Dessalines. Haiti, or Ayiti in Creole, is the name given to the land by the former Taino-Arawak peoples, meaning "mountainous country."</a:t>
            </a:r>
            <a:r>
              <a:rPr b="0" lang="en-US" sz="2400" spc="-1" strike="noStrike">
                <a:solidFill>
                  <a:srgbClr val="93c47d"/>
                </a:solidFill>
                <a:latin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60640" y="3657600"/>
            <a:ext cx="37911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2640" y="299520"/>
            <a:ext cx="9659880" cy="9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0000"/>
                </a:solidFill>
                <a:latin typeface="Arial"/>
              </a:rPr>
              <a:t>Sites In Haiti!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3600" y="4165560"/>
            <a:ext cx="84218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In Haiti you know that there is probably almost NO amusement parks or anything because they are trying to pay and arrange all the damage that happened from the earthquake!!!???:(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These are two kids on swings and in the background you can see one or two rides!!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520" y="295200"/>
            <a:ext cx="965376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00"/>
                </a:solidFill>
                <a:latin typeface="Arial"/>
              </a:rPr>
              <a:t>Haiti's Earthquak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0360" y="5181480"/>
            <a:ext cx="9534600" cy="22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Haiti's earthquake did massive destruc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he earthquake was 7.0 in magnitude and many lives were go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Please if you can everyday donate just 25 cents to $1.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That's all they need....Thank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520" y="295200"/>
            <a:ext cx="96537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4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0" lang="en-US" sz="6400" spc="-1" strike="noStrike">
                <a:solidFill>
                  <a:srgbClr val="9900ff"/>
                </a:solidFill>
                <a:latin typeface="Arial"/>
              </a:rPr>
              <a:t>Thank You For Watching</a:t>
            </a:r>
            <a:br>
              <a:rPr sz="6400"/>
            </a:br>
            <a:r>
              <a:rPr b="0" lang="en-US" sz="6400" spc="-1" strike="noStrike">
                <a:solidFill>
                  <a:srgbClr val="ff00ff"/>
                </a:solidFill>
                <a:latin typeface="Arial"/>
              </a:rPr>
              <a:t>By Katelin Brito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36520" y="1822320"/>
            <a:ext cx="96537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ff"/>
                </a:solidFill>
                <a:latin typeface="Arial"/>
              </a:rPr>
              <a:t>Please Click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087640" y="34290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ffff"/>
                </a:solidFill>
                <a:latin typeface="Arial"/>
              </a:rPr>
              <a:t>Capital and Population of Haiti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58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5818e"/>
                </a:solidFill>
                <a:latin typeface="Arial"/>
              </a:rPr>
              <a:t>Haiti's capital is Port-au-Pri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581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5818e"/>
                </a:solidFill>
                <a:latin typeface="Arial"/>
              </a:rPr>
              <a:t>The population of Haiti is 9,993,247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15920" y="2844720"/>
            <a:ext cx="66675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W.E.B Dubo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6aa84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aa84f"/>
                </a:solidFill>
                <a:latin typeface="Arial"/>
              </a:rPr>
              <a:t>W.E.B Dubois was a famous american Civil Rights Leader whose parents migrated from Hait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17720" y="3048120"/>
            <a:ext cx="2904840" cy="4002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310824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9400" y="297000"/>
            <a:ext cx="96598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0000"/>
                </a:solidFill>
                <a:latin typeface="Arial"/>
              </a:rPr>
              <a:t>Form Of Government &amp; The Current Lea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Haiti's form of government is semi-presidential system, Parliamentary republic, and Presidential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c0000"/>
                </a:solidFill>
                <a:latin typeface="Arial"/>
              </a:rPr>
              <a:t>Haiti's current leader is Michel Martelly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30320" y="3454560"/>
            <a:ext cx="570096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Haiti's major expor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69138"/>
                </a:solidFill>
                <a:latin typeface="Arial"/>
              </a:rPr>
              <a:t>Two of Haiti's major exports are coffee, and coco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69138"/>
                </a:solidFill>
                <a:latin typeface="Arial"/>
              </a:rPr>
              <a:t>Some other major exports are Sisal, Sugar, and Bauxi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3251160"/>
            <a:ext cx="3632400" cy="321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78440" y="3251160"/>
            <a:ext cx="41734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Haiti's Major Relig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3d85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d85c6"/>
                </a:solidFill>
                <a:latin typeface="Arial"/>
              </a:rPr>
              <a:t>Haiti's major religions is Roman Catholic, and Protesta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2743200"/>
            <a:ext cx="4078440" cy="388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76920" y="2844720"/>
            <a:ext cx="489096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ff"/>
                </a:solidFill>
                <a:latin typeface="Arial"/>
              </a:rPr>
              <a:t>Holida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a64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64d79"/>
                </a:solidFill>
                <a:latin typeface="Arial"/>
              </a:rPr>
              <a:t>Haiti's most important holiday is Independence Day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a64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64d79"/>
                </a:solidFill>
                <a:latin typeface="Arial"/>
              </a:rPr>
              <a:t>Independence Day is celebrated on January 1 because it is to remember   </a:t>
            </a:r>
            <a:r>
              <a:rPr b="0" lang="en-US" sz="2700" spc="-1" strike="noStrike">
                <a:solidFill>
                  <a:srgbClr val="a64d79"/>
                </a:solidFill>
                <a:latin typeface="Verdana"/>
              </a:rPr>
              <a:t>the day in 1804 </a:t>
            </a:r>
            <a:r>
              <a:rPr b="0" lang="en-US" sz="2700" spc="-1" strike="noStrike">
                <a:solidFill>
                  <a:srgbClr val="a64d79"/>
                </a:solidFill>
                <a:latin typeface="arial"/>
              </a:rPr>
              <a:t>when Jean Jacques Dessalines made a declaration of independence and restored the country's original name Haiti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4581360" cy="3363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4240" y="3962520"/>
            <a:ext cx="40291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ff"/>
                </a:solidFill>
                <a:latin typeface="Arial"/>
              </a:rPr>
              <a:t>Currenc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674e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Arial"/>
              </a:rPr>
              <a:t>Haiti's currency is Gourd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674e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74ea7"/>
                </a:solidFill>
                <a:latin typeface="Arial"/>
              </a:rPr>
              <a:t>The exchange rate per U.S. dollar is 38.5000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" y="3355920"/>
            <a:ext cx="4911840" cy="317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892840" y="3352680"/>
            <a:ext cx="34146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Arial"/>
              </a:rPr>
              <a:t>Haiti's National Anthe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3600" y="1101240"/>
            <a:ext cx="701208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35000" y="2271600"/>
            <a:ext cx="730404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